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13.jpeg" ContentType="image/jpeg"/>
  <Override PartName="/ppt/media/image8.jpeg" ContentType="image/jpeg"/>
  <Override PartName="/ppt/media/image26.jpeg" ContentType="image/jpeg"/>
  <Override PartName="/ppt/media/image5.jpeg" ContentType="image/jpeg"/>
  <Override PartName="/ppt/media/image4.wmf" ContentType="image/x-wmf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.wmf" ContentType="image/x-wmf"/>
  <Override PartName="/ppt/media/image15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2.png" ContentType="image/png"/>
  <Override PartName="/ppt/media/image24.png" ContentType="image/png"/>
  <Override PartName="/ppt/media/image25.jpeg" ContentType="image/jpeg"/>
  <Override PartName="/ppt/media/image29.png" ContentType="image/png"/>
  <Override PartName="/ppt/media/image2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A12B-6565-4107-8098-B17A3029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olipid bi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other molecules in membra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 skeleton, different functional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e of same elements as carbohydrates but very different structure/ proportions &amp; therefore very different biolog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at structure… What makes them hydrophob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functional group = carbox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FAT molecul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lling the water out to free up the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happens when you add oil to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is there a lot of energy stored in fa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bonds of stored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why are we attracted to eating f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our ancestors on the Serengeti Plain &amp; during the Ice Age. Was eating fat an advant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plant lip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“natural” peanut but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unsaturated fa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il separat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ies want to make their product easier to u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p the oil from separa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oil solid at room te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genate it = chemically alter to satur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 nutr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CCF7-F225-4A2C-A3A3-420FE5299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000F-55A4-47C3-A1AD-B56948A3F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7B80-A5D7-4AF4-AA0A-B313A275A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EC1E-7F5F-4EA0-AFC9-185E153C8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DEE8-3401-4E3D-B40D-93B4E6307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092F-DC97-4DE0-82B4-E8D89C393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5A41-CBC6-49E3-9397-801781969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5E3E-CD03-4DA1-A15E-0B30194F1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7805-0517-4383-AB83-6FA0F7BF7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FB34-7752-40D8-9F2C-3A2DC49F0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C820-737D-4506-A751-A824192CF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A212-8BD7-47D1-B538-23982ED43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EA65-E282-4A83-9A6D-B6E60418F73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: Fats &amp; Oil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87320" y="1371600"/>
            <a:ext cx="3175200" cy="2540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43400" y="1344600"/>
            <a:ext cx="4572000" cy="258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97840" y="4229280"/>
            <a:ext cx="1717560" cy="247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38080" y="4191120"/>
            <a:ext cx="2476800" cy="2278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657600" y="42670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vs. unsaturate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6492"/>
          <a:stretch/>
        </p:blipFill>
        <p:spPr>
          <a:xfrm>
            <a:off x="762120" y="1752480"/>
            <a:ext cx="8164440" cy="3178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75689" r="60301" b="6492"/>
          <a:stretch/>
        </p:blipFill>
        <p:spPr>
          <a:xfrm>
            <a:off x="797040" y="4881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0" t="75689" r="60301" b="6492"/>
          <a:stretch/>
        </p:blipFill>
        <p:spPr>
          <a:xfrm>
            <a:off x="797040" y="541512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rcRect l="0" t="75689" r="60301" b="6492"/>
          <a:stretch/>
        </p:blipFill>
        <p:spPr>
          <a:xfrm>
            <a:off x="797040" y="5943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rcRect l="61204" t="69198" r="0" b="6492"/>
          <a:stretch/>
        </p:blipFill>
        <p:spPr>
          <a:xfrm>
            <a:off x="5638680" y="4967280"/>
            <a:ext cx="3168720" cy="82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rcRect l="61204" t="69198" r="0" b="6492"/>
          <a:stretch/>
        </p:blipFill>
        <p:spPr>
          <a:xfrm>
            <a:off x="5975280" y="5867280"/>
            <a:ext cx="3168720" cy="824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01280" y="129492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9360" y="129492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un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2666880"/>
            <a:ext cx="3595680" cy="3595680"/>
            <a:chOff x="914400" y="2666880"/>
            <a:chExt cx="3595680" cy="3595680"/>
          </a:xfrm>
        </p:grpSpPr>
        <p:sp>
          <p:nvSpPr>
            <p:cNvPr id="169" name=""/>
            <p:cNvSpPr/>
            <p:nvPr/>
          </p:nvSpPr>
          <p:spPr>
            <a:xfrm>
              <a:off x="914400" y="2666880"/>
              <a:ext cx="3595680" cy="3595680"/>
            </a:xfrm>
            <a:prstGeom prst="ellipse">
              <a:avLst/>
            </a:prstGeom>
            <a:noFill/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6960" y="3008160"/>
              <a:ext cx="2139480" cy="2927160"/>
            </a:xfrm>
            <a:prstGeom prst="line">
              <a:avLst/>
            </a:prstGeom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007960" y="3015720"/>
            <a:ext cx="407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0" spc="-1" strike="noStrike">
                <a:solidFill>
                  <a:srgbClr val="006c01"/>
                </a:solidFill>
                <a:latin typeface="Wingdings"/>
                <a:ea typeface="Wingdings"/>
              </a:rPr>
              <a:t></a:t>
            </a:r>
            <a:endParaRPr b="0" lang="en-US" sz="37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32404" b="8571"/>
          <a:stretch/>
        </p:blipFill>
        <p:spPr>
          <a:xfrm>
            <a:off x="4091040" y="2660760"/>
            <a:ext cx="4849920" cy="4132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ycerol + 2 fatty acids +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negatively charg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1105920" y="3591000"/>
            <a:ext cx="2469960" cy="2077920"/>
          </a:xfrm>
          <a:prstGeom prst="wedgeEllipseCallout">
            <a:avLst>
              <a:gd name="adj1" fmla="val 42990"/>
              <a:gd name="adj2" fmla="val 508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t’s just like 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enguin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 head at one e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&amp; a tai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t the other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in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ilic heads attracted to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tails “hide” from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self-assemble into “bubbles”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bble = “micelle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n also form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rly evolutionary stage of cell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27489" t="0" r="0" b="52806"/>
          <a:stretch/>
        </p:blipFill>
        <p:spPr>
          <a:xfrm>
            <a:off x="228600" y="4343400"/>
            <a:ext cx="4267080" cy="2446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29604" t="57006" r="0" b="8678"/>
          <a:stretch/>
        </p:blipFill>
        <p:spPr>
          <a:xfrm>
            <a:off x="4971960" y="5043600"/>
            <a:ext cx="3924360" cy="1633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54480" y="4477320"/>
            <a:ext cx="3419640" cy="459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ilay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is this importan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create a barrier in wa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fine outside vs. insid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35040" y="3327480"/>
            <a:ext cx="2903400" cy="24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73600" y="2889360"/>
            <a:ext cx="5105160" cy="38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42302" t="0" r="32674" b="11856"/>
          <a:stretch/>
        </p:blipFill>
        <p:spPr>
          <a:xfrm>
            <a:off x="254160" y="3029040"/>
            <a:ext cx="1158840" cy="25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0" t="0" r="0" b="17560"/>
          <a:stretch/>
        </p:blipFill>
        <p:spPr>
          <a:xfrm>
            <a:off x="4343400" y="3192480"/>
            <a:ext cx="4699080" cy="36655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&amp; c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69199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of cell membran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ouble layer =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ilic heads on outsid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in contact with aqueous solution outside of cell and inside of cel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obic tails on insid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rm cor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ms barrier between cell &amp;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ternal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>
            <a:off x="1657440" y="4857840"/>
            <a:ext cx="2286000" cy="1239840"/>
          </a:xfrm>
          <a:prstGeom prst="wedgeEllipseCallout">
            <a:avLst>
              <a:gd name="adj1" fmla="val 65208"/>
              <a:gd name="adj2" fmla="val 24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ell th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bout soa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ero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: cholesterol, sex hormo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 fused C ring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steroids created by attach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functional group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ring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3200400" y="4038480"/>
            <a:ext cx="5753160" cy="2605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897280" y="4266360"/>
            <a:ext cx="167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holestero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ell component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imal 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ecursor of all other 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cluding vertebrate sex horm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igh levels in blood may contribute to cardiovascular dise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228600" y="4703760"/>
            <a:ext cx="4419720" cy="2001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971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27040" y="2043000"/>
            <a:ext cx="5738760" cy="430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413400" y="3089160"/>
            <a:ext cx="2616480" cy="13780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elps keep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ell membranes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luid &amp; flexib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6960" y="1384200"/>
            <a:ext cx="8008920" cy="50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0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omponent of cell membran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holesterol </a:t>
            </a:r>
            <a:r>
              <a:rPr b="1" lang="en-US" sz="36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Sex Hormon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236760" y="1785960"/>
            <a:ext cx="5830920" cy="4995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52280" y="1898640"/>
            <a:ext cx="3048120" cy="2254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rcRect l="5666" t="0" r="9438" b="0"/>
          <a:stretch/>
        </p:blipFill>
        <p:spPr>
          <a:xfrm>
            <a:off x="0" y="4575240"/>
            <a:ext cx="3200400" cy="1974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10720" y="1230120"/>
            <a:ext cx="815364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What a big difference a few atoms can make!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Let’s build some </a:t>
            </a:r>
            <a:endParaRPr b="1" lang="en-US" sz="3800" spc="-1" strike="noStrike">
              <a:solidFill>
                <a:srgbClr val="0f116a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!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002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1683" r="52024" b="48674"/>
          <a:stretch/>
        </p:blipFill>
        <p:spPr>
          <a:xfrm>
            <a:off x="5407200" y="447840"/>
            <a:ext cx="3511440" cy="19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22200"/>
            <a:ext cx="1792440" cy="265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38280" y="4290840"/>
            <a:ext cx="3962520" cy="24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2476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84600" y="3427920"/>
            <a:ext cx="326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nergy storage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6880" y="138384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pids are composed of C, H, 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long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ydrocarbon chai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verse grou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ospho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no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form polym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big molecul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made of smaller subun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 continuing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7200" r="0" b="0"/>
          <a:stretch/>
        </p:blipFill>
        <p:spPr>
          <a:xfrm>
            <a:off x="6999120" y="378000"/>
            <a:ext cx="2028960" cy="269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4" name="" descr=""/>
          <p:cNvPicPr/>
          <p:nvPr/>
        </p:nvPicPr>
        <p:blipFill>
          <a:blip r:embed="rId2"/>
          <a:srcRect l="0" t="47402" r="9442" b="9600"/>
          <a:stretch/>
        </p:blipFill>
        <p:spPr>
          <a:xfrm>
            <a:off x="5113440" y="2911320"/>
            <a:ext cx="3951360" cy="210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5" name=""/>
          <p:cNvSpPr/>
          <p:nvPr/>
        </p:nvSpPr>
        <p:spPr>
          <a:xfrm>
            <a:off x="6342120" y="2432880"/>
            <a:ext cx="64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at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 subuni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ycero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3C alcohol)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ty ac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65883"/>
          <a:stretch/>
        </p:blipFill>
        <p:spPr>
          <a:xfrm>
            <a:off x="1600200" y="3429000"/>
            <a:ext cx="6477120" cy="2482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12400" y="5866200"/>
            <a:ext cx="3414600" cy="459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438280"/>
            <a:ext cx="77724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atty acid = </a:t>
            </a:r>
            <a:br>
              <a:rPr sz="2400"/>
            </a:b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l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C “tail” with COOH group at “head”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20800" y="3343320"/>
            <a:ext cx="2165400" cy="1650960"/>
            <a:chOff x="1720800" y="3343320"/>
            <a:chExt cx="2165400" cy="1650960"/>
          </a:xfrm>
        </p:grpSpPr>
        <p:sp>
          <p:nvSpPr>
            <p:cNvPr id="122" name=""/>
            <p:cNvSpPr/>
            <p:nvPr/>
          </p:nvSpPr>
          <p:spPr>
            <a:xfrm>
              <a:off x="1720800" y="3343320"/>
              <a:ext cx="2165400" cy="165096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8760" y="4293360"/>
              <a:ext cx="139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ilding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iacylglycer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fatty acids linked to glycer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ster linkag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= between OH &amp; COOH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0718" r="8536" b="3420"/>
          <a:stretch/>
        </p:blipFill>
        <p:spPr>
          <a:xfrm>
            <a:off x="1981080" y="2874960"/>
            <a:ext cx="5581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47402" r="9442" b="9600"/>
          <a:stretch/>
        </p:blipFill>
        <p:spPr>
          <a:xfrm>
            <a:off x="2189160" y="3524400"/>
            <a:ext cx="5608800" cy="299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2"/>
          <a:srcRect l="0" t="0" r="0" b="66003"/>
          <a:stretch/>
        </p:blipFill>
        <p:spPr>
          <a:xfrm>
            <a:off x="2209680" y="1193760"/>
            <a:ext cx="5405400" cy="2063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hydration 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6800" y="3289320"/>
            <a:ext cx="1861920" cy="1419120"/>
            <a:chOff x="2206800" y="3289320"/>
            <a:chExt cx="1861920" cy="1419120"/>
          </a:xfrm>
        </p:grpSpPr>
        <p:sp>
          <p:nvSpPr>
            <p:cNvPr id="131" name=""/>
            <p:cNvSpPr/>
            <p:nvPr/>
          </p:nvSpPr>
          <p:spPr>
            <a:xfrm>
              <a:off x="2206800" y="328932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7960" y="410256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251320" y="2633760"/>
            <a:ext cx="516240" cy="819000"/>
          </a:xfrm>
          <a:prstGeom prst="downArrow">
            <a:avLst>
              <a:gd name="adj1" fmla="val 50000"/>
              <a:gd name="adj2" fmla="val 3966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06800" y="4335480"/>
            <a:ext cx="1861920" cy="1419120"/>
            <a:chOff x="2206800" y="4335480"/>
            <a:chExt cx="1861920" cy="1419120"/>
          </a:xfrm>
        </p:grpSpPr>
        <p:sp>
          <p:nvSpPr>
            <p:cNvPr id="135" name=""/>
            <p:cNvSpPr/>
            <p:nvPr/>
          </p:nvSpPr>
          <p:spPr>
            <a:xfrm>
              <a:off x="2206800" y="43354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7960" y="51487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06800" y="5438880"/>
            <a:ext cx="1861920" cy="1419120"/>
            <a:chOff x="2206800" y="5438880"/>
            <a:chExt cx="1861920" cy="1419120"/>
          </a:xfrm>
        </p:grpSpPr>
        <p:sp>
          <p:nvSpPr>
            <p:cNvPr id="138" name=""/>
            <p:cNvSpPr/>
            <p:nvPr/>
          </p:nvSpPr>
          <p:spPr>
            <a:xfrm>
              <a:off x="2206800" y="54388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7960" y="62521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700440" y="2718360"/>
            <a:ext cx="3419640" cy="4597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 store ener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ng HC cha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ar or non-polar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ilic or hydrophobic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storag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very ric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x carbohydrat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ushion orga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sulates 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nk whale blubbe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08160" y="1814400"/>
            <a:ext cx="1922760" cy="735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84480" y="2247840"/>
            <a:ext cx="259092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352" t="46803" r="9442" b="9002"/>
          <a:stretch/>
        </p:blipFill>
        <p:spPr>
          <a:xfrm>
            <a:off x="4694400" y="3191040"/>
            <a:ext cx="4270320" cy="237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64560" y="3985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64280" y="500040"/>
            <a:ext cx="2411280" cy="1239840"/>
          </a:xfrm>
          <a:prstGeom prst="wedgeEllipseCallout">
            <a:avLst>
              <a:gd name="adj1" fmla="val 71726"/>
              <a:gd name="adj2" fmla="val -27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Why do humans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like fatty foods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816520" y="4807080"/>
            <a:ext cx="2843280" cy="189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C bonded to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C=C double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ong, straight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st animal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lid at room temp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tributes to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diovascular diseas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atherosclerosis)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plaque deposi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683" r="52024" b="4872"/>
          <a:stretch/>
        </p:blipFill>
        <p:spPr>
          <a:xfrm>
            <a:off x="5502240" y="3038400"/>
            <a:ext cx="3513240" cy="3668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2"/>
          <a:srcRect l="23628" t="60008" r="27001" b="7504"/>
          <a:stretch/>
        </p:blipFill>
        <p:spPr>
          <a:xfrm>
            <a:off x="5370480" y="635040"/>
            <a:ext cx="37735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53555" t="2520" r="3600" b="5039"/>
          <a:stretch/>
        </p:blipFill>
        <p:spPr>
          <a:xfrm>
            <a:off x="5681520" y="2820960"/>
            <a:ext cx="3343320" cy="3867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3120" y="1371600"/>
            <a:ext cx="7947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C double bond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fatty aci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lant &amp; fish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getable oi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quid at room temper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kinks made by doubl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onded C prevent th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lecules from packing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ightly toge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1501" t="51000" r="27001" b="3000"/>
          <a:stretch/>
        </p:blipFill>
        <p:spPr>
          <a:xfrm>
            <a:off x="5719680" y="355680"/>
            <a:ext cx="2908440" cy="241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flipH="1">
            <a:off x="221760" y="556560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2154240" y="5479920"/>
            <a:ext cx="2548080" cy="1239840"/>
          </a:xfrm>
          <a:prstGeom prst="wedgeEllipseCallout">
            <a:avLst>
              <a:gd name="adj1" fmla="val 88254"/>
              <a:gd name="adj2" fmla="val -146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mono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poly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alst</cp:lastModifiedBy>
  <cp:lastPrinted>2007-11-13T04:33:52Z</cp:lastPrinted>
  <dcterms:modified xsi:type="dcterms:W3CDTF">2009-12-08T13:13:55Z</dcterms:modified>
  <cp:revision>42</cp:revision>
  <dc:subject/>
  <dc:title>PowerPoint Presentation</dc:title>
</cp:coreProperties>
</file>